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62A-FBC3-466E-BD2C-3DB36B0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5EE-6975-4E0D-8931-478814B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8A2-F11E-4B3D-A045-36861596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2F1-8131-456C-9D16-8E08CF6A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B20-E441-4573-BDFF-8E960B5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7B5-5DCA-4EAA-93BB-B9DA6AB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5B4-F864-4D05-A916-27D22DD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FCE-25E4-4328-A785-8861191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4DB-FF17-4FB1-8761-60099EC4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551-4D59-47FB-A27E-DD9A099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A84-1069-488E-8FE9-5A4B3A0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6EB-96A4-4D5F-B81E-FFCB858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DC3F-AC83-4109-B54F-DD9CE5FC0F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8:00:44Z</dcterms:created>
  <dc:creator>Grupo Editorial</dc:creator>
  <dc:description/>
  <dc:language>en-US</dc:language>
  <cp:lastModifiedBy>TORRES</cp:lastModifiedBy>
  <dcterms:modified xsi:type="dcterms:W3CDTF">2010-12-18T22:23:09Z</dcterms:modified>
  <cp:revision>1</cp:revision>
  <dc:subject/>
  <dc:title>Sin título de diapositiva</dc:title>
</cp:coreProperties>
</file>